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gif" ContentType="image/gif"/>
  <Override PartName="/ppt/media/image5.wmf" ContentType="image/x-wmf"/>
  <Override PartName="/ppt/media/image7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BB30-8F81-4239-854A-E035D5C0E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892E-8A7B-47E6-BF3A-8576F7090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952C-FDDF-47D7-918C-2BCD8B764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625A-095F-42EF-817F-DC6D6C052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55E5-E78E-4A63-B6C4-94FB2D895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958E-BCDD-4BEC-8DCA-DD6541F66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E011-135B-4C69-919B-E99F4E4F1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0EC5-C5E4-48F0-8C0C-6FB4FADEA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FB31-DD61-48DD-8A88-3655F7DF9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D5B4-F289-4DE1-808F-94E339E29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467E-940B-4FA1-A79C-29B4DCC57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A69E-017B-451D-962D-8B846F833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F8B36-C58B-4FAA-AD29-1976D069CFD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-1684800"/>
            <a:ext cx="9901080" cy="854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900"/>
            </a:br>
            <a:br>
              <a:rPr sz="5900"/>
            </a:br>
            <a:r>
              <a:rPr b="1" i="1" lang="ru-RU" sz="6600" spc="-1" strike="noStrike">
                <a:solidFill>
                  <a:srgbClr val="000000"/>
                </a:solidFill>
                <a:latin typeface="Garamond"/>
              </a:rPr>
              <a:t>Курение-</a:t>
            </a:r>
            <a:br>
              <a:rPr sz="6600"/>
            </a:br>
            <a:r>
              <a:rPr b="1" i="1" lang="ru-RU" sz="6600" spc="-1" strike="noStrike">
                <a:solidFill>
                  <a:srgbClr val="000000"/>
                </a:solidFill>
                <a:latin typeface="Garamond"/>
              </a:rPr>
              <a:t>опасное увлечение</a:t>
            </a:r>
            <a:br>
              <a:rPr sz="6600"/>
            </a:br>
            <a:br>
              <a:rPr sz="5900"/>
            </a:br>
            <a:r>
              <a:rPr b="1" i="1" lang="ru-RU" sz="5900" spc="-1" strike="noStrike">
                <a:solidFill>
                  <a:srgbClr val="000000"/>
                </a:solidFill>
                <a:latin typeface="Garamond"/>
              </a:rPr>
              <a:t>            </a:t>
            </a:r>
            <a:r>
              <a:rPr b="1" i="1" lang="ru-RU" sz="3500" spc="-1" strike="noStrike">
                <a:solidFill>
                  <a:srgbClr val="000000"/>
                </a:solidFill>
                <a:latin typeface="Garamond"/>
              </a:rPr>
              <a:t>«</a:t>
            </a:r>
            <a:r>
              <a:rPr b="1" i="1" lang="ru-RU" sz="3100" spc="-1" strike="noStrike">
                <a:solidFill>
                  <a:srgbClr val="000000"/>
                </a:solidFill>
                <a:latin typeface="Garamond"/>
              </a:rPr>
              <a:t>Табак приносит вред телу,</a:t>
            </a:r>
            <a:br>
              <a:rPr sz="3100"/>
            </a:br>
            <a:r>
              <a:rPr b="1" i="1" lang="ru-RU" sz="3100" spc="-1" strike="noStrike">
                <a:solidFill>
                  <a:srgbClr val="000000"/>
                </a:solidFill>
                <a:latin typeface="Garamond"/>
              </a:rPr>
              <a:t>        разрушает разум, </a:t>
            </a:r>
            <a:br>
              <a:rPr sz="3100"/>
            </a:br>
            <a:r>
              <a:rPr b="1" i="1" lang="ru-RU" sz="3100" spc="-1" strike="noStrike">
                <a:solidFill>
                  <a:srgbClr val="000000"/>
                </a:solidFill>
                <a:latin typeface="Garamond"/>
              </a:rPr>
              <a:t>                    отупляет целые нации»</a:t>
            </a:r>
            <a:br>
              <a:rPr sz="3100"/>
            </a:br>
            <a:br>
              <a:rPr sz="3100"/>
            </a:br>
            <a:r>
              <a:rPr b="1" i="1" lang="ru-RU" sz="3100" spc="-1" strike="noStrike">
                <a:solidFill>
                  <a:srgbClr val="000000"/>
                </a:solidFill>
                <a:latin typeface="Garamond"/>
              </a:rPr>
              <a:t>                                               О. Де Бальзак. </a:t>
            </a:r>
            <a:br>
              <a:rPr sz="5900"/>
            </a:b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PE03339_"/>
          <p:cNvPicPr/>
          <p:nvPr/>
        </p:nvPicPr>
        <p:blipFill>
          <a:blip r:embed="rId1"/>
          <a:stretch/>
        </p:blipFill>
        <p:spPr>
          <a:xfrm>
            <a:off x="58680" y="3429000"/>
            <a:ext cx="2670120" cy="30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10517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HEARTLNG"/>
          <p:cNvPicPr/>
          <p:nvPr/>
        </p:nvPicPr>
        <p:blipFill>
          <a:blip r:embed="rId1"/>
          <a:stretch/>
        </p:blipFill>
        <p:spPr>
          <a:xfrm>
            <a:off x="1116000" y="0"/>
            <a:ext cx="6143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WordArt 4"/>
          <p:cNvSpPr txBox="1"/>
          <p:nvPr/>
        </p:nvSpPr>
        <p:spPr>
          <a:xfrm>
            <a:off x="2124000" y="189000"/>
            <a:ext cx="6553440" cy="468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714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Garamond"/>
              </a:rPr>
              <a:t>21 ноября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Garamond"/>
              <a:ea typeface="Garamond"/>
            </a:endParaRPr>
          </a:p>
        </p:txBody>
      </p:sp>
      <p:sp>
        <p:nvSpPr>
          <p:cNvPr id="61" name="WordArt 5"/>
          <p:cNvSpPr txBox="1"/>
          <p:nvPr/>
        </p:nvSpPr>
        <p:spPr>
          <a:xfrm>
            <a:off x="0" y="4797360"/>
            <a:ext cx="9144000" cy="98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Garamond"/>
              </a:rPr>
              <a:t>День борьбы с курением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Garamond"/>
              <a:ea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1692360" y="0"/>
            <a:ext cx="460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"/>
          <p:cNvPicPr/>
          <p:nvPr/>
        </p:nvPicPr>
        <p:blipFill>
          <a:blip r:embed="rId1"/>
          <a:stretch/>
        </p:blipFill>
        <p:spPr>
          <a:xfrm>
            <a:off x="2092320" y="0"/>
            <a:ext cx="4578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cc"/>
                </a:solidFill>
                <a:latin typeface="Arial"/>
              </a:rPr>
              <a:t>Борьба с курением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765000"/>
            <a:ext cx="91440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cc"/>
                </a:solidFill>
                <a:latin typeface="Arial"/>
              </a:rPr>
              <a:t>Англия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вычитают деньги из зарплаты за время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веденное в курительной комна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cc"/>
                </a:solidFill>
                <a:latin typeface="Arial"/>
              </a:rPr>
              <a:t>Дания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запрещено курить в общественных мест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cc"/>
                </a:solidFill>
                <a:latin typeface="Arial"/>
              </a:rPr>
              <a:t>Сингапур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курение – 500 долларов штраф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т рекламы на табачные издел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cc"/>
                </a:solidFill>
                <a:latin typeface="Arial"/>
              </a:rPr>
              <a:t>Финляндия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врачи установили 1 день - 17 ноября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гда курильщики приходят на работу без сигар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cc"/>
                </a:solidFill>
                <a:latin typeface="Arial"/>
              </a:rPr>
              <a:t>Япония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. Ваки – решение: 3 дня в месяц без кур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cc"/>
                </a:solidFill>
                <a:latin typeface="Arial"/>
              </a:rPr>
              <a:t>Франц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После антитабачной кампании число курильщик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кратилось более, чем на 2 млн. челове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cc"/>
                </a:solidFill>
                <a:latin typeface="Arial"/>
              </a:rPr>
              <a:t>Итак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-1044720" y="-387360"/>
            <a:ext cx="11233440" cy="724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4"/>
          <p:cNvSpPr/>
          <p:nvPr/>
        </p:nvSpPr>
        <p:spPr>
          <a:xfrm>
            <a:off x="-1004760" y="2248200"/>
            <a:ext cx="11079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ой вред здоровью может принести сигарет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ие вредные вещества в сигарет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Помогают ли фильтры избежать вредных воздействий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Как вы поясните поговорку “Капля никотина убивает лошадь!”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Как ведется борьба с курением в других странах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нас в стране? В школ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a800"/>
                </a:solidFill>
                <a:latin typeface="Arial"/>
              </a:rPr>
              <a:t>Мои аргументы против кур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урение разрушает организ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урение приводит к неизлечимым болезня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урение снижает физическую активно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урение портит цвет кож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икотин забирает свободу, человек становится его раб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img1"/>
          <p:cNvPicPr/>
          <p:nvPr/>
        </p:nvPicPr>
        <p:blipFill>
          <a:blip r:embed="rId1"/>
          <a:stretch/>
        </p:blipFill>
        <p:spPr>
          <a:xfrm>
            <a:off x="179280" y="404640"/>
            <a:ext cx="8785440" cy="61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img1.jpg (20867 bytes)"/>
          <p:cNvPicPr/>
          <p:nvPr/>
        </p:nvPicPr>
        <p:blipFill>
          <a:blip r:embed="rId1"/>
          <a:stretch/>
        </p:blipFill>
        <p:spPr>
          <a:xfrm>
            <a:off x="971640" y="0"/>
            <a:ext cx="7848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3"/>
          <p:cNvSpPr/>
          <p:nvPr/>
        </p:nvSpPr>
        <p:spPr>
          <a:xfrm>
            <a:off x="1042920" y="6381720"/>
            <a:ext cx="374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179280" y="189000"/>
          <a:ext cx="8713800" cy="6416640"/>
        </p:xfrm>
        <a:graphic>
          <a:graphicData uri="http://schemas.openxmlformats.org/drawingml/2006/table">
            <a:tbl>
              <a:tblPr/>
              <a:tblGrid>
                <a:gridCol w="4392720"/>
                <a:gridCol w="1224000"/>
                <a:gridCol w="1257120"/>
                <a:gridCol w="1839960"/>
              </a:tblGrid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кет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сь класс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льчик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воч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Вы курите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н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Почему вы начали курить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друзья курили                                               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родители курил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из любопытств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чтобы выглядеть старш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Большинство ваших друзей курит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н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Как вы оцениваете свою успеваемость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выше средн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средн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ниже средн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Пытались ли вы бросить курить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н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Считаете ли вы, что курение опасно для вашего здоровья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н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не задумывался над эти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 Чаще всего я курю тогда, когда ---------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 Я делаю попытки бросить курить, но мне мешают такие обстоятельства--------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 Мои родители о моей привычк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не догадываютс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догадываютс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лнуюсь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умаю что это баловство,когда захочу, тогда и брош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лнуюс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умаю что это баловство,когда захочу, тогда и брош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img2.jpg (15310 bytes)"/>
          <p:cNvPicPr/>
          <p:nvPr/>
        </p:nvPicPr>
        <p:blipFill>
          <a:blip r:embed="rId1"/>
          <a:stretch/>
        </p:blipFill>
        <p:spPr>
          <a:xfrm>
            <a:off x="611280" y="0"/>
            <a:ext cx="8064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езультаты анкетиров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611280" y="1844640"/>
          <a:ext cx="7786440" cy="4114800"/>
        </p:xfrm>
        <a:graphic>
          <a:graphicData uri="http://schemas.openxmlformats.org/drawingml/2006/table">
            <a:tbl>
              <a:tblPr/>
              <a:tblGrid>
                <a:gridCol w="3529080"/>
                <a:gridCol w="2014200"/>
                <a:gridCol w="2243160"/>
              </a:tblGrid>
              <a:tr h="205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г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рошенных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курят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урят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 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91%)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9%)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езультаты анкетиров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457200" y="1600200"/>
          <a:ext cx="8229600" cy="4114800"/>
        </p:xfrm>
        <a:graphic>
          <a:graphicData uri="http://schemas.openxmlformats.org/drawingml/2006/table">
            <a:tbl>
              <a:tblPr/>
              <a:tblGrid>
                <a:gridCol w="2892600"/>
                <a:gridCol w="2619360"/>
                <a:gridCol w="2717640"/>
              </a:tblGrid>
              <a:tr h="205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го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урящих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вочки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льчики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9%)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щее мнение о курен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ношение к курени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урит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допустим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то возможно или  обычное дел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льчик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воче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mht72(1)"/>
          <p:cNvPicPr/>
          <p:nvPr/>
        </p:nvPicPr>
        <p:blipFill>
          <a:blip r:embed="rId1"/>
          <a:stretch/>
        </p:blipFill>
        <p:spPr>
          <a:xfrm>
            <a:off x="539640" y="333360"/>
            <a:ext cx="8209080" cy="61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ношение курящих к сигарета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468360" y="1844640"/>
          <a:ext cx="8234280" cy="4969080"/>
        </p:xfrm>
        <a:graphic>
          <a:graphicData uri="http://schemas.openxmlformats.org/drawingml/2006/table">
            <a:tbl>
              <a:tblPr/>
              <a:tblGrid>
                <a:gridCol w="3560760"/>
                <a:gridCol w="2336760"/>
                <a:gridCol w="2336760"/>
              </a:tblGrid>
              <a:tr h="2226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ношение к курени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то возможно или  обычное дел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ури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допустим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Юнош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% (девушкам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вушк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% (юношам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2436840" y="404640"/>
            <a:ext cx="4014720" cy="568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Хочешь жить – бросай курить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457200" y="1600200"/>
          <a:ext cx="8229600" cy="513396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езн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урящие, 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курящие,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Нерв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Понижение слух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Плохая памя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Плохое физ. состоя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Плохое умств. состоя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Нечистоплотн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Плохие отмет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Медленно соображаю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5T07:58:20Z</dcterms:created>
  <dc:creator>Школа</dc:creator>
  <dc:description/>
  <dc:language>en-US</dc:language>
  <cp:lastModifiedBy>Admin</cp:lastModifiedBy>
  <dcterms:modified xsi:type="dcterms:W3CDTF">2011-05-01T17:31:01Z</dcterms:modified>
  <cp:revision>24</cp:revision>
  <dc:subject/>
  <dc:title>Курение:  ЗА и ПРОТИВ</dc:title>
</cp:coreProperties>
</file>